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epl.it/languages/javascript" TargetMode="External"/><Relationship Id="rId2" Type="http://schemas.openxmlformats.org/officeDocument/2006/relationships/hyperlink" Target="https://repl.it/languages/javascript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itc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seppe Attar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i Pi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Interprete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-eval-print loop (REP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eclaration or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 exec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to inpu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repl.it/languages/javascri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e in most brow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block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{ } for grouping; not a separate sco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&gt; var x=3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&gt;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&gt; {var x=4; x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&gt;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blocks in the sense of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unction calls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 cause a change of 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primitive data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alu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bit floating point, similar to Java double and Dou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teger typ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a number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of zero or more Unicode charact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parate character type (just strings of length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 strings using ' or " characters  (must mat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val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of(null) = object;     typeof(undefined)=undef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4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s a collection of named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view: hash table or associative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fine by set of name:value pa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Bob = {name: “Bob", grade: 'A', level: 3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embers can be added at any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Bob.fullname = 'Robert'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methods, can refer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, functions regarded as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y of an object may be a function (=metho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defines an object with method called “( )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max(x,y) { if (x&gt;y) return x; else return y;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description = “return the maximum of two arguments”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about func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4640" y="1599840"/>
            <a:ext cx="846936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s can appear in function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variables, “inner”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types passed by value, objects by 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can supply any numb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.length : # of arguments in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.arguments.length : # args in c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” functions (expressions for func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unction (x,y) { return x+y }) (2,3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s and Currie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CurAdd(x){ return function(y) { return x+y }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unction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functions make great callb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meout(function() { alert("done"); }, 10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ed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CurriedAdd(x){ return function(y){ return x+y}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CurriedAdd(2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numb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umAll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otal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var i=0; i&lt; sumAll.arguments.length; i++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+=sumAll.arguments[i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(total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All(3,5,3,5,3,2,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Use of anonymous function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5998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functions very useful for callb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meout(function() { alert("done"); }, 10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// putting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alert("done")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in function delays evaluation until c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blocks by function definition and c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u = { a:1, b:2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= { a:3, b:4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unction (x,y)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empA = x.a; var tempB = x.b; 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// lo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a = y.a; x.b = y.b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.a = tempA; y.b = temp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) (u,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// This works because objects are represented by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tour: lambda calculu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y             x + 2*y + 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(x+y)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 (x + 2*y + 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(x+y)) (3)               =  3 +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 (x + 2*y + z))(5)     =  x + 2*y +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gher-Order Func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function f, return function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f (f 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f (f x))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y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y+1)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y+1)  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. y+1) (x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(x+1)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028"/>
          <p:cNvGrpSpPr/>
          <p:nvPr/>
        </p:nvGrpSpPr>
        <p:grpSpPr>
          <a:xfrm>
            <a:off x="1469880" y="3019320"/>
            <a:ext cx="3254400" cy="790560"/>
            <a:chOff x="1469880" y="3019320"/>
            <a:chExt cx="3254400" cy="790560"/>
          </a:xfrm>
        </p:grpSpPr>
        <p:sp>
          <p:nvSpPr>
            <p:cNvPr id="168" name="Oval 1029"/>
            <p:cNvSpPr/>
            <p:nvPr/>
          </p:nvSpPr>
          <p:spPr>
            <a:xfrm>
              <a:off x="3124080" y="3276720"/>
              <a:ext cx="1600200" cy="533160"/>
            </a:xfrm>
            <a:prstGeom prst="ellipse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9900"/>
                </a:buClr>
                <a:buSzPct val="8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  <p:sp>
          <p:nvSpPr>
            <p:cNvPr id="169" name="Freeform 1030"/>
            <p:cNvSpPr/>
            <p:nvPr/>
          </p:nvSpPr>
          <p:spPr>
            <a:xfrm>
              <a:off x="1469880" y="3019320"/>
              <a:ext cx="2057400" cy="35568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296" h="224">
                  <a:moveTo>
                    <a:pt x="1296" y="180"/>
                  </a:moveTo>
                  <a:cubicBezTo>
                    <a:pt x="1172" y="153"/>
                    <a:pt x="767" y="0"/>
                    <a:pt x="551" y="7"/>
                  </a:cubicBezTo>
                  <a:cubicBezTo>
                    <a:pt x="335" y="14"/>
                    <a:pt x="115" y="179"/>
                    <a:pt x="0" y="224"/>
                  </a:cubicBezTo>
                </a:path>
              </a:pathLst>
            </a:custGeom>
            <a:noFill/>
            <a:ln w="93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</p:grpSp>
      <p:grpSp>
        <p:nvGrpSpPr>
          <p:cNvPr id="170" name="Group 1031"/>
          <p:cNvGrpSpPr/>
          <p:nvPr/>
        </p:nvGrpSpPr>
        <p:grpSpPr>
          <a:xfrm>
            <a:off x="3903840" y="3900600"/>
            <a:ext cx="1201680" cy="595080"/>
            <a:chOff x="3903840" y="3900600"/>
            <a:chExt cx="1201680" cy="595080"/>
          </a:xfrm>
        </p:grpSpPr>
        <p:sp>
          <p:nvSpPr>
            <p:cNvPr id="171" name="Oval 1032"/>
            <p:cNvSpPr/>
            <p:nvPr/>
          </p:nvSpPr>
          <p:spPr>
            <a:xfrm>
              <a:off x="4800600" y="4033800"/>
              <a:ext cx="304920" cy="461880"/>
            </a:xfrm>
            <a:prstGeom prst="ellipse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9900"/>
                </a:buClr>
                <a:buSzPct val="8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  <p:sp>
          <p:nvSpPr>
            <p:cNvPr id="172" name="Freeform 1033"/>
            <p:cNvSpPr/>
            <p:nvPr/>
          </p:nvSpPr>
          <p:spPr>
            <a:xfrm>
              <a:off x="3903840" y="3900600"/>
              <a:ext cx="966600" cy="2505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09" h="158">
                  <a:moveTo>
                    <a:pt x="609" y="99"/>
                  </a:moveTo>
                  <a:cubicBezTo>
                    <a:pt x="553" y="84"/>
                    <a:pt x="375" y="0"/>
                    <a:pt x="274" y="10"/>
                  </a:cubicBezTo>
                  <a:cubicBezTo>
                    <a:pt x="173" y="20"/>
                    <a:pt x="57" y="127"/>
                    <a:pt x="0" y="158"/>
                  </a:cubicBezTo>
                </a:path>
              </a:pathLst>
            </a:custGeom>
            <a:noFill/>
            <a:ln w="93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</p:grpSp>
      <p:grpSp>
        <p:nvGrpSpPr>
          <p:cNvPr id="173" name="Group 1034"/>
          <p:cNvGrpSpPr/>
          <p:nvPr/>
        </p:nvGrpSpPr>
        <p:grpSpPr>
          <a:xfrm>
            <a:off x="2409840" y="4613400"/>
            <a:ext cx="1704960" cy="644400"/>
            <a:chOff x="2409840" y="4613400"/>
            <a:chExt cx="1704960" cy="644400"/>
          </a:xfrm>
        </p:grpSpPr>
        <p:sp>
          <p:nvSpPr>
            <p:cNvPr id="174" name="Oval 1035"/>
            <p:cNvSpPr/>
            <p:nvPr/>
          </p:nvSpPr>
          <p:spPr>
            <a:xfrm>
              <a:off x="3276720" y="4724280"/>
              <a:ext cx="838080" cy="533520"/>
            </a:xfrm>
            <a:prstGeom prst="ellipse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9900"/>
                </a:buClr>
                <a:buSzPct val="8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  <p:sp>
          <p:nvSpPr>
            <p:cNvPr id="175" name="Freeform 1036"/>
            <p:cNvSpPr/>
            <p:nvPr/>
          </p:nvSpPr>
          <p:spPr>
            <a:xfrm>
              <a:off x="2409840" y="4613400"/>
              <a:ext cx="988920" cy="24264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623" h="153">
                  <a:moveTo>
                    <a:pt x="623" y="124"/>
                  </a:moveTo>
                  <a:cubicBezTo>
                    <a:pt x="564" y="104"/>
                    <a:pt x="371" y="0"/>
                    <a:pt x="267" y="5"/>
                  </a:cubicBezTo>
                  <a:cubicBezTo>
                    <a:pt x="163" y="10"/>
                    <a:pt x="56" y="122"/>
                    <a:pt x="0" y="153"/>
                  </a:cubicBezTo>
                </a:path>
              </a:pathLst>
            </a:custGeom>
            <a:noFill/>
            <a:ln w="93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68686"/>
                </a:solidFill>
                <a:latin typeface="Tahoma"/>
              </a:endParaRPr>
            </a:p>
          </p:txBody>
        </p:sp>
      </p:grpSp>
      <p:sp>
        <p:nvSpPr>
          <p:cNvPr id="176" name="Text Box 1037"/>
          <p:cNvSpPr/>
          <p:nvPr/>
        </p:nvSpPr>
        <p:spPr>
          <a:xfrm>
            <a:off x="762120" y="6113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In pure lambda calculus, same result if step 2 is altered.</a:t>
            </a:r>
            <a:endParaRPr b="0" lang="en-US" sz="24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ame procedure, Lisp synt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function f, return function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ambda (f) (lambda (x) (f (f x)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lambda (f) (lambda (x) (f (f x))))  (lambda (y) (+ y 1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lambda (x) ((lambda (y) (+ y 1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lambda (y) (+ y 1)) x))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(lambda (x) ((lambda (y) (+ y 1)) (+ x 1))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lambda (x) (+ (+ x 1) 1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talk about JavaScript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4640" y="1599840"/>
            <a:ext cx="846936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widely used, and gro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s, AJAX, Web 2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number of web-relat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and unusual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class functions                                 </a:t>
            </a:r>
            <a:r>
              <a:rPr b="0" lang="en-US" sz="2000" spc="-1" strike="noStrike">
                <a:solidFill>
                  <a:srgbClr val="adb8ff"/>
                </a:solidFill>
                <a:latin typeface="Arial"/>
              </a:rPr>
              <a:t>- inter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without classes                            </a:t>
            </a:r>
            <a:r>
              <a:rPr b="0" lang="en-US" sz="2000" spc="-1" strike="noStrike">
                <a:solidFill>
                  <a:srgbClr val="adb8ff"/>
                </a:solidFill>
                <a:latin typeface="Arial"/>
              </a:rPr>
              <a:t>- slightly unus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modification capabilities              </a:t>
            </a:r>
            <a:r>
              <a:rPr b="0" lang="en-US" sz="2000" spc="-1" strike="noStrike">
                <a:solidFill>
                  <a:srgbClr val="adb8ff"/>
                </a:solidFill>
                <a:latin typeface="Arial"/>
              </a:rPr>
              <a:t>- very unus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method to object, redefine prototype, access call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ecurity, correctness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tatically typed – type of variable may change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predict program properties in adv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ame procedure, JavaScript syntax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function f, return function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(f) { return </a:t>
            </a: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function (x) { return f(f(x));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function (x) { return f(f(x)); }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(function (y) { return y + 1; }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function (x) { retur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(function (y) { return y + 1; }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(function (y) { return y + 1; })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x)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function (x) { retur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(function (y) { return y + 1; }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(x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+ 1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function (x) { return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+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+ 1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sic object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function to construct an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r(make, model, year) 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make = mak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model = model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year = year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prototypes, can be ch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c = new car(“Ford”,”Taurus”,1988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.prototype.print = function (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his.year + “ “ + this.make + “ “ + this.model;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prin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functions and </a:t>
            </a:r>
            <a:r>
              <a:rPr b="0" i="1" lang="en-US" sz="4400" spc="-1" strike="noStrike">
                <a:solidFill>
                  <a:srgbClr val="000000"/>
                </a:solidFill>
                <a:latin typeface="Tw Cen MT Condensed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x = 5; var y = 5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f() { return this.x + y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o1 = {x : 10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o2 = {x : 20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1.g = f; o2.g = f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1.g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2.g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209680" y="5707080"/>
            <a:ext cx="6705720" cy="1072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2680" indent="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h o1.g and o2.g refer to the same function object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  <a:p>
            <a:pPr lvl="1" marL="112680" indent="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 are the results for o1.g() and o2.g() different ?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about </a:t>
            </a:r>
            <a:r>
              <a:rPr b="0" i="1" lang="en-US" sz="4400" spc="-1" strike="noStrike">
                <a:solidFill>
                  <a:srgbClr val="000000"/>
                </a:solidFill>
                <a:latin typeface="Tw Cen MT Condensed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6984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of the activation object for function c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to the object which has the function as a property (or metho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o  = {x : 10, f : function() { return this.x }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.f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solved dynamically when the method i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pecial treatment for nested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o = { x: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: function() 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g() { return this.x } 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g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.f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g gets the global object as its this proper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unction.prototype.bind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ar myObj = 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yMethod: function () {  },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llback: function (cb) 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b(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der: function () 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var that = this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.callback(function () 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ha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myMethod(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yObj.render(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ular Callout 5"/>
          <p:cNvSpPr/>
          <p:nvPr/>
        </p:nvSpPr>
        <p:spPr>
          <a:xfrm>
            <a:off x="2819520" y="5105520"/>
            <a:ext cx="6324480" cy="1428480"/>
          </a:xfrm>
          <a:prstGeom prst="wedgeRoundRectCallout">
            <a:avLst>
              <a:gd name="adj1" fmla="val -63092"/>
              <a:gd name="adj2" fmla="val -62032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is.innerFunction() would raise error:</a:t>
            </a:r>
            <a:endParaRPr b="0" lang="en-US" sz="1600" spc="-1" strike="noStrike">
              <a:solidFill>
                <a:srgbClr val="86868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6868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aught TypeError: Object [object global] has no method ‘</a:t>
            </a:r>
            <a:r>
              <a:rPr b="0" lang="en-US" sz="1600" spc="-1" strike="noStrike">
                <a:solidFill>
                  <a:srgbClr val="868686"/>
                </a:solidFill>
                <a:latin typeface="Tahoma"/>
              </a:rPr>
              <a:t>my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6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d() creates a new function that, when called, has it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eyword set to the provided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pass our desired context, this (which is myObj), to method bind(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callback function is executed, this references myObj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der: function ()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callback(function () {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myMethod(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.bind(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nguage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440" y="1714680"/>
            <a:ext cx="8381880" cy="44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, local variables in activation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reclamation of inaccessibl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gether with environment (global variab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previously declared location, passing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lookup, Encapsulation, Subtyping, Inheri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more than one task at a time (JavaScript is single-thread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ack memory managemen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0608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variables in activation record of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f(x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y = 3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g(z) { return y+z;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x= 1; var y =2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+ 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reclamation of unused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2: per page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aim memory when browser changes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3: reference 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mory region has associated cou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modified when pointers are chang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aim memory when count reaches z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4: mark-and-sweep, or equiva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bage collector marks reachabl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p and reclaim unreachabl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71040" y="6019920"/>
            <a:ext cx="7313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b8ff"/>
                </a:solidFill>
                <a:latin typeface="Tahoma"/>
              </a:rPr>
              <a:t>Reference http://www.unix.org.ua/orelly/web/jscript/ch11_07.html</a:t>
            </a:r>
            <a:endParaRPr b="0" lang="en-US" sz="1800" spc="-1" strike="noStrike">
              <a:solidFill>
                <a:srgbClr val="868686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uss garbage collection in connection with Lisp</a:t>
            </a:r>
            <a:endParaRPr b="0" lang="en-US" sz="18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Histo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Brendan Eich at Netscap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ing language for Navigator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standardized for browser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AScript Edition 3 (aka JavaScript 1.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Java in name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was part of a marketing d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implementations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dermonkey interactive shell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ino: http://www.mozilla.org/rhino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os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function from function c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f(x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y = 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unction (z){y += z; return y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h = f(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3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this idea to define objects with “private” fiel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tech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rockford.com/JavaScript/private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veloper.mozilla.org/en/docs/Core_JavaScript_1.5_Guide:Working_with_Clo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subtleties (look for __parent__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w an expression of any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w "Error2"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w 42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w {toString: function() { return "I'm an object!"; } }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e if e == “FirstException") {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 do some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e if e == “SecondException") {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 do something 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e){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 executed if no match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927000" y="5927760"/>
            <a:ext cx="7527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b8ff"/>
                </a:solidFill>
                <a:latin typeface="Tahoma"/>
              </a:rPr>
              <a:t>Reference: http://developer.mozilla.org/en/docs/</a:t>
            </a:r>
            <a:endParaRPr b="0" lang="en-US" sz="1800" spc="-1" strike="noStrike">
              <a:solidFill>
                <a:srgbClr val="868686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b8ff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adb8ff"/>
                </a:solidFill>
                <a:latin typeface="Tahoma"/>
              </a:rPr>
              <a:t>Core_JavaScript_1.5_Guide :Exception_Handling_Statements</a:t>
            </a:r>
            <a:endParaRPr b="0" lang="en-US" sz="18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bject featur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look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pends on run-time value of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ntains private data, publ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f one type can be used in place of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mplementation of one kind of object to implement another kind of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currenc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Script itself is single-thre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tell if a language provides concurr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provides a form of concurr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XMLHttpRequest object, set callback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request method, which continues asynchronous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y from remote site executes callback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waits in event queue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s important for proper execution of callb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form of concurr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tTimeout to do cooperative multi-tas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we will explore this in homework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Script eva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600200"/>
            <a:ext cx="8178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string as c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val function evaluates a string of JavaScript code, in scope of the calling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code = "var a = 1"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(code); // a is now '1‘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obj = new Object()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.eval(code); // obj.a is now 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us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ly deserialize a large, complicated JavaScript data structures received over network via XMLHttpReques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it cost to have eval in the languag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you do this in C?   What would it take to implement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nusual features of 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74640" y="1638000"/>
            <a:ext cx="846936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uilt-in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, Run-time type checking function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support of pattern ma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, delete methods of an object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n examples adding methods. Do you like this? Disadvantag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bj.a = 5; myobj.b = 12; delete myobj.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fine native functions and objects (incl undefin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e over methods of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variable in object) { statements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tatement (“considered harmful” – why?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(object) { statements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ndan Eich, slides from ICFP conference tal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mozilla.org/js/language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CF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Keynote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w3schools.com/js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Gu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s://developer.mozilla.org/he/docs/Web/JavaScript/Gu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glas Crockford 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crockford.com/JavaScript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20bits.com/2007/03/08/the-philosophy-of-JavaScript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tivation for JavaScrip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,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scape &gt; 90% browser market sh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do “HTML scripting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ndan 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hacked the JS prototype in ~1 week in M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t showed!  Mistakes were frozen ear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year spent embedding in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es of JavaScript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embellishments and special ef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content mani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Web 2.0: client functionality implemented at 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658480" y="374004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db8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adb8ff"/>
                </a:solidFill>
                <a:latin typeface="Tahoma"/>
              </a:rPr>
              <a:t>- ICFP talk, 2006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1: simple calcu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&gt;  … &lt;/p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num1, num2,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1 = prompt("Enter first number"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2 = prompt("Enter second number"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parseInt(num1) + parseInt(num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("Sum = " + s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2: browser even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cript type="text/JavaScript"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whichButton(event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event.button==1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("You clicked the left mouse button!")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("You clicked the right mouse button!"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 onmousedown="whichButton(event)"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715000" y="144792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ouse event causes  page-defined function to be called 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37560" y="6095880"/>
            <a:ext cx="72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ther events: onLoad, onMouseMove, onKeyPress, onUnLoad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3: page manipul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Element(elementN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TextNode(te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Child(newChil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Child(n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dd a new list i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3962520"/>
            <a:ext cx="5943600" cy="1981080"/>
          </a:xfrm>
          <a:prstGeom prst="rect">
            <a:avLst/>
          </a:prstGeom>
          <a:solidFill>
            <a:srgbClr val="d6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868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var list = document.getElementById(‘list1')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var newitem = document.createElement('li')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var newtext = document.createTextNode(text)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list.appendChild(newitem)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newitem.appendChild(newtext)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736560" y="6103800"/>
            <a:ext cx="7721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ample uses the browser Document Object Model (DOM). For now, we will focus on JavaScript as a language, not its use in the browser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86868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sign goal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ndan Eich’s 2006 ICFP ta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it easy to copy/paste snippets of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lerate “minor” errors (missing semicol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ied onclick, onmousedown, etc., event handling, inspired by Hyper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a few hard-working, powerful primi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class functions for procedural abst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s everywhere, prototype-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ve all else ou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Language basic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 is case sen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is not case sensitive:   onClick, ONCLICK, … are the same in 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terminated by returns or semi-colons (;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x+1;    same as      x = x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colons can be a good idea, to reduce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tatements using 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t a separate 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like other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variable using the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implicitly by its first use, which must be an assig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plicit definition has global scope, even if it occurs in nested scope?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7T20:51:32Z</dcterms:created>
  <dc:creator>John C Mitchell</dc:creator>
  <dc:description/>
  <dc:language>en-US</dc:language>
  <cp:lastModifiedBy>Giuseppe Attardi</cp:lastModifiedBy>
  <cp:lastPrinted>1998-09-29T18:13:30Z</cp:lastPrinted>
  <dcterms:modified xsi:type="dcterms:W3CDTF">2016-07-03T09:02:10Z</dcterms:modified>
  <cp:revision>4799</cp:revision>
  <dc:subject/>
  <dc:title>CS242. 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Documents\cs242\notes\web-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